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8827-B221-4DF1-8390-7E8035E5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E1B6-F952-44C9-B0FD-72626AA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0548-1BE3-478A-BCB7-3F74030B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9162-AD21-46C8-AD0B-D6742683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D21C-74D2-4A22-8C9B-6732ED20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CFAF-4C42-44EB-BDD7-3252F1FB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E64-9F82-4671-8721-99278A9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FD36-47D3-4AD4-ABBF-1F21AAB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DFCF-6738-46C5-9355-862EFCB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1977-E4E4-4C34-BD43-B1902C3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7512-6B8E-413C-82B3-4DA4348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B6E2-86D0-404F-8A01-3B48B28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FA36-A2F8-404C-A11D-480FE04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658-5A86-474C-8E10-6A6D5C6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37AD-1058-4EC4-B98A-2805A16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C0E-3B66-4141-9D52-8CD2EA5C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6E1-12C4-4DBA-B1DA-FFE5BD96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457B-55B0-42F1-904B-33EBFAAE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767B-364C-4DFD-8902-4682F16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444B-F8BD-4DFD-9402-580B0B6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A50B-BE17-4643-9E49-6294FA81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BCB7-A3AD-448A-85E0-87BA3CA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8D49-C756-4D89-B340-61CE058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BB23-DCE6-4B33-B7D4-B4ABAB6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44C4-FB10-461E-B6D5-48C40E5F90F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E53-6DC0-41BE-8B79-9BB5D8D867A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fdef6"/>
                </a:solidFill>
                <a:uFillTx/>
                <a:latin typeface="Arial"/>
              </a:rPr>
              <a:t>Korrosion (allg. Rost)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9200" cy="464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el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stehend aus ANODE und KATHODE in Berührung mit einer leitenden Flüssig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Edlere Werksto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Kathode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unedler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Anode, in einem Elektrolyt führt zu einer anodischen Auflösung (Oxidation) des unedleren durch Elektronenabga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potenzial ist proportional zur Höhe der elektrochem.Span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ildung von Anode und Kath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ch unterschiedliche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 Oberflächen (Bildung von Lokalelemen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ügebestandteile heterogener Legier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erschiedliche Spannungs- und Verformungsbereiche (gekantetes Ble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Lokalelem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26800" y="2162880"/>
            <a:ext cx="50922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lektrochemische Sauerstoffkorrosion feuchter Stahloberfläc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37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835280" y="1514520"/>
            <a:ext cx="5408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verschiedene Werkstoff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1825560"/>
            <a:ext cx="79675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influssgrößen der Kontaktkorrosionsgefahr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zialdiffer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zusammensetz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ächenverhältnis des edleren zum unedleren 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rmalspannungsreihe liefert für die Praxis keine brauchbaren Ergebni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sche Spannungsreihen als Hil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Elektrische Trennung wäre optim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wirken von Sauerstoff; Salzen; Gasen; Säuren auf die Metalloberfläche, wobei eine chemische Verbindung entste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bei spielt der Sauerstoff eine wesentliche Rolle, der mit den Metallen dass Metalloxid bild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 typisches Beispiel für chemische Korrosion ist das Zundern von Stahl. Bei hoher Temperatur reagiert der Luftsauerstoff unmittelbar mit dem Eisen, es bildet sich Eisenox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Zundern von St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418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Metallphysikalische Rea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 Art der Reaktion tritt nur sehr selten auf, z.B. bei der ,,Zinnpest". Hierbei zerfällt das Zinn bei sehr tiefen Temperaturen durch Gitterumwandl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ichmäßige Flächen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den- und Loch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lt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nungsriss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ktive 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Glied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rtschaftlicher Schaden durch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griff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arten (chemische Vorgän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 und ihr Erscheinungsb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ssiv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schu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uch zur elektrochem.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57840" cy="35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9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41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712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40680" cy="455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4876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ierung der Metalloberfläche durch Bildung einer haltbaren, dichten Oxidsch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Ch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p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Oxidschicht bei Stahl locker und porös,  Metall keinen Schutz. Korrodiert bis zur vollständigen Auflös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wahl geeigneter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gerechte Konstru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taktkorrosionsstellen sind auszusc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palte sind zu vermei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öglichst glatte Oberflächen sind zu schaffen, z.B. durch Abschleifen oder Pol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schichten auf Eisenwerkstof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todischer Korrosionsschutz (mit Opferanode oder Fremdstroma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gerechte Konstru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58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schicht auf Stah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2946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Wirtschaftlicher Schaden durch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% des Bruttosozialproduktes eines Landes gehen verlore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Kosteneinsparung möglich, wenn Kenntnisse über Korrosion und Korrosionsschutz technisch besser genutzt würde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chutzmetallschich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zu schützende Metall muss edler als das Überzugsmetall se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Verletzung der Schicht löst sich das Schutzmetall au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berzugmetall ist edler als das zu schützende Meta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un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Katodischer 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wußte Erzeugung eines Korrosionselem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 schützende Metall ist die Kathode, das zu opfernde Metall ist die Anode, es muss unedler als der Kathodenwerkstoff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Opferano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vanischer Vorg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undärer Korrosions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332000" y="2924280"/>
            <a:ext cx="66247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Fremdstro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lektrolytischer Vorg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k. 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stellen der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rderl. Schutz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romdich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Versuch zur elektrochemischen 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hezu gesättigte Salzwasserlösung (Salzgehalt ca. 35 % hohe Leitfähigkei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chiedenartige Korrosionselemente in der Salzlös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gabe zur 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definition DIN 509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griff und Zerstörung metallischer Werkstoffe durch Reaktionen mit Wirkstoffen aus der Umgebung. (lat. corrodere = zernag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produkt (z.B. Rost) kann löslich, unlöslich oder auch festhaftend s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ost chem. FeO(OH)  Eisenoxidhydroxid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Durch Korrosion geht Werkstoff verloren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wächung des Querschni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Verletzung der Oberflä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s Korrosionsprodukt hat ein größeres Volu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Von einem Korrosionsschaden spricht man jedoch erst, wenn die Funktion beeinträchtigt ist.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ispiele für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3384360" cy="2536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402000" cy="25509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ar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lektrochemisch (häufig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tallphysikalisch (selten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Erosionskorrosion durch Festkörper-  teilch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 Gebrauchsmetalle befinden sich im unstabilen Zu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 wollen wieder in ihre Oxide oder Sulfide aus denen sie gewonnen wurden zurückke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reben des Metalls seine Ionen in die Lösung zu se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 alle Korrosionsvorgänge   sind elektrochemischer Natur, ihr Mechanismus entspricht einem galvanischen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chtigkeitsfilm als Elektrolyt, Handschweiß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reste in Spal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5878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58:09Z</dcterms:created>
  <dc:creator>M</dc:creator>
  <dc:description/>
  <dc:language>en-US</dc:language>
  <cp:lastModifiedBy>BF20-04</cp:lastModifiedBy>
  <dcterms:modified xsi:type="dcterms:W3CDTF">2005-12-26T18:46:51Z</dcterms:modified>
  <cp:revision>77</cp:revision>
  <dc:subject/>
  <dc:title>Korrosion</dc:title>
</cp:coreProperties>
</file>